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236-F836-414C-8FD8-17AA47DB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5DD-1D26-4C22-B99D-5F1A1C0A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22D-BF15-4717-A9DD-1B8DF20D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0A2-3021-49D4-8DAD-309800FF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5ED7-367D-429E-8D64-3E8AD153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8080-4CD7-45C5-9F93-5291C7F1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8DFD-8714-43FE-B602-7BE6F9E7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1850-D3C1-47AE-83D9-4F4748CB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81FC-8F3C-4C0D-ACB7-7F4690A2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CBD7-C116-4D6C-9EDA-A0D089EE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FAC1-BA5A-4828-8EF7-F380F8ED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D37-19BF-4B3F-BD2F-679ABAF2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A528-32D3-4A87-8896-C0617E71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732C-5E65-4C1D-847F-BA44DE6E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C3CE-699B-4C00-9B2B-A227ABF0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5526-4FE0-42DB-B52E-099AA7AE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E25D-E4C0-4DB6-BFFB-6E50F046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72F-387A-4822-9AAD-7B6F1927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D8D-A4A7-4F12-B0EE-02DF8856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B27-6143-4AFE-B26C-7A1445AF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E08-D04E-4D6F-B720-38CEF9A2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3FA-DF72-476E-B68A-DBFEB677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ADC-1ED0-4359-ADFD-7C3B4641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0AE-64F6-4238-A267-AB96FC2B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20A5-D3E5-4097-AB38-5E295B3B75E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65A9-0712-4EBC-A14B-10198706A3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ОСТРОЕНИЕ ПАРАЛЛЕЛОГРАММА ПО ДВУМ СМЕЖНЫМ СТОРОНАМ И УГЛУ МЕЖДУ НИМ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148000" y="2997360"/>
            <a:ext cx="30258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Урок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графики и геометри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924680" cy="4456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360" y="333360"/>
            <a:ext cx="76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Arial"/>
              </a:rPr>
              <a:t>ПОВТОРЕНИЕ</a:t>
            </a:r>
            <a:r>
              <a:rPr b="0" lang="en-US" sz="9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5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745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75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65080" y="907920"/>
            <a:ext cx="553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мер решения задач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графическом редакторе КОМПА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9246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20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КАЗАТЕЛЬ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4537080" cy="2519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219640" y="2708280"/>
            <a:ext cx="352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В = 55 (по построению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C = 55 (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 построению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В =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 = 78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по построению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 = 78 (по построению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 =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к как АВ =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C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ВС =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о АВ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– параллелограм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по признаку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79480" y="5537160"/>
            <a:ext cx="60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араллелограмм АВ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- искомы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0:58:46Z</dcterms:created>
  <dc:creator>Дмитриев А.А.</dc:creator>
  <dc:description/>
  <dc:language>en-US</dc:language>
  <cp:lastModifiedBy>Vlad</cp:lastModifiedBy>
  <dcterms:modified xsi:type="dcterms:W3CDTF">2013-03-15T23:11:16Z</dcterms:modified>
  <cp:revision>11</cp:revision>
  <dc:subject/>
  <dc:title>ПОСТРОЕНИЕ ПАРАЛЛЕЛОГРАММА ПО ЗАДАННЫМ СТОРОНАМ И УГЛУ МЕЖДУ НИМИ</dc:title>
</cp:coreProperties>
</file>